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EA3-62C9-4979-862D-4C2ACB2D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CF1-F847-4ECF-A561-5D3ED644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DBD-EA38-4491-A120-BF5D2FAB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362-EA3D-4D48-963E-AA344CBD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BB99-16C4-4199-977F-8C0AE731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D1E7-1E98-4F46-84F7-FFB0553B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9B45-C3B7-466E-B891-16B8A8B8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428E-2FE3-4E85-A8A4-EBCD7B7B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B513-5941-4CF4-A21B-E592DD6E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3F7A-B5C8-47D0-B3DA-78532A13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3D58-A9D1-4C7C-9BE1-5C6E30FB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E06-AFA8-4DC0-8598-AF7981C0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DAC6-D271-4519-871A-918263F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A50A-13EE-42C6-B077-8BB82335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FC7D-CCC5-41D2-AF47-737F45BB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0EA4-8813-4C0B-90BA-5A333BE9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C3FE-0081-4E02-B6BC-A799B060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98B-14A0-427E-AC67-AB9659DA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83A-1C52-4942-B0AE-B045F763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4E6-7032-4E69-8CE3-5EBD0C38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728-065F-4356-81A9-8E512258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8C1-A8F1-406B-A6E9-D99F52B6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F78-FDDC-4CB0-8937-8D30793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E63-BE79-4997-9942-DC1DCA38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BD3B-F3D8-49F5-9EC0-7104C45EB5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3DF5-A01B-40AD-AB8D-AD1AEC24E6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afael Leónidas Trujillo Molin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he Dictator of the Dominican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Trujillo"/>
          <p:cNvPicPr/>
          <p:nvPr/>
        </p:nvPicPr>
        <p:blipFill>
          <a:blip r:embed="rId1"/>
          <a:stretch/>
        </p:blipFill>
        <p:spPr>
          <a:xfrm>
            <a:off x="3733920" y="4038480"/>
            <a:ext cx="1942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31376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irabal Sisters are martyrs in their coun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so influential that the author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lia Álvarez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rote a novel about their l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graphic"/>
          <p:cNvPicPr/>
          <p:nvPr/>
        </p:nvPicPr>
        <p:blipFill>
          <a:blip r:embed="rId1"/>
          <a:stretch/>
        </p:blipFill>
        <p:spPr>
          <a:xfrm>
            <a:off x="6337440" y="3276720"/>
            <a:ext cx="2120760" cy="3124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2036880" cy="3105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3429000" y="3381480"/>
            <a:ext cx="18763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76320"/>
            <a:ext cx="7313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assinating Trujillo took a long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entral Intelligence Agency (CIA), in the USA helped the Dominicans plan the death of Trujillo in 1961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apons had to come from outside the country because they could not count on the weapons of the Dominican Milit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IA started sending weapons to Dominican Republic in 196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4800600" y="4495680"/>
            <a:ext cx="37339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600" y="1219320"/>
            <a:ext cx="7012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rn on October 24, 1891 in San Cristobal, Dominican Re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parents were poor and of mixed rac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european/black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Map of Dominican Republic"/>
          <p:cNvPicPr/>
          <p:nvPr/>
        </p:nvPicPr>
        <p:blipFill>
          <a:blip r:embed="rId1"/>
          <a:stretch/>
        </p:blipFill>
        <p:spPr>
          <a:xfrm>
            <a:off x="2874960" y="2211480"/>
            <a:ext cx="393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69800" y="990720"/>
            <a:ext cx="7313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27, he joins the National Pol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was trained by the US military when they occupied the Dominican Republ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ly rose in ranks as an Officer and at this time, he met many influential people and created a chain of all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1919 and 1925, he rose from Lieutenant to Commanding Colonel of the National Pol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990720"/>
            <a:ext cx="7313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jillo was the head of the Military for Horacio Vásquez, who was President at th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30, Trujillo along with the US government got rid of Vásqu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is revolution, Trujillo became Presid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his inauguration, the Congress proclaimed the “Age of Trujillo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70160" y="762120"/>
            <a:ext cx="724032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jillo was President from 1930 until 1938 and from 1942 until 1952.  He was also Minister of Foreign Relations from 1953 to 196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n when he was not the President nor the Minister of Foreign Relations, he was the Dictator of the Dominican Republi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jillo’s flag during his presiden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Flag of the Generalissime"/>
          <p:cNvPicPr/>
          <p:nvPr/>
        </p:nvPicPr>
        <p:blipFill>
          <a:blip r:embed="rId1"/>
          <a:stretch/>
        </p:blipFill>
        <p:spPr>
          <a:xfrm>
            <a:off x="3357720" y="3200400"/>
            <a:ext cx="3195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363760" y="230040"/>
            <a:ext cx="6703920" cy="63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en he was President, Trujillo the political party “El Partido Dominicano” that controlled the politics of the Dominican Republic for three decades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uring the Age of Trujillo, the Dominican economy had the most stability, however the citizens had no political freedom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ll Dominicans had to have a Photograph of Trujillo in their homes and had to include him in their prayer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trujillo3"/>
          <p:cNvPicPr/>
          <p:nvPr/>
        </p:nvPicPr>
        <p:blipFill>
          <a:blip r:embed="rId1"/>
          <a:stretch/>
        </p:blipFill>
        <p:spPr>
          <a:xfrm>
            <a:off x="0" y="0"/>
            <a:ext cx="240840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0" y="38862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18960" y="1080"/>
            <a:ext cx="731340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used his position in the military to obtain and maintain his pow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used the “Policía Secreta” as spies in the Dominican Republic and many other countri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government of Haiti found out that they were being spied on by Trujillo, the Haitians killed the sp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taliation, Trujillo murdered 20,000 Haitians en 193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76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ere many citizens that were against the atrocities of Truji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rabal Sisters, better known as “Las mariposas” (the butterflies), were three activists that were against Trujillo’s dictatorship. They were four sisters from Ojo de Agua, Dominican Re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fought against the governments injustices by informing the public about what was really happening in the coun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6" descr="picture/image_Patricia_Marie_Minerva_Mirabal_sisters"/>
          <p:cNvPicPr/>
          <p:nvPr/>
        </p:nvPicPr>
        <p:blipFill>
          <a:blip r:embed="rId1"/>
          <a:stretch/>
        </p:blipFill>
        <p:spPr>
          <a:xfrm>
            <a:off x="3200400" y="47340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75960"/>
            <a:ext cx="80769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rabal sisters were some of the most influential revolutionists during Trujillo’s Regim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jillo had them murd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isters were part of an underground movement against Trujillo’s govern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erv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ria Tere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Patria%20SMALLER"/>
          <p:cNvPicPr/>
          <p:nvPr/>
        </p:nvPicPr>
        <p:blipFill>
          <a:blip r:embed="rId1"/>
          <a:stretch/>
        </p:blipFill>
        <p:spPr>
          <a:xfrm>
            <a:off x="990720" y="2971800"/>
            <a:ext cx="2012760" cy="259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Minerva%20SMALLER"/>
          <p:cNvPicPr/>
          <p:nvPr/>
        </p:nvPicPr>
        <p:blipFill>
          <a:blip r:embed="rId2"/>
          <a:stretch/>
        </p:blipFill>
        <p:spPr>
          <a:xfrm>
            <a:off x="3903840" y="2971800"/>
            <a:ext cx="1963440" cy="252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3"/>
          <a:stretch/>
        </p:blipFill>
        <p:spPr>
          <a:xfrm>
            <a:off x="6532560" y="2971800"/>
            <a:ext cx="1544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6:32:27Z</dcterms:created>
  <dc:creator>Jennifer Dawson</dc:creator>
  <dc:description/>
  <dc:language>en-US</dc:language>
  <cp:lastModifiedBy>Helen Zumaeta</cp:lastModifiedBy>
  <dcterms:modified xsi:type="dcterms:W3CDTF">2013-02-11T21:16:31Z</dcterms:modified>
  <cp:revision>18</cp:revision>
  <dc:subject/>
  <dc:title>Rafael Trujillo</dc:title>
</cp:coreProperties>
</file>